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5EC-71CE-4A6C-987A-6CED8A81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44A-9F71-4CAA-88BB-3B34E573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CB8-819D-4C57-9386-6347F3BF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B8F-A854-455B-9B38-17746A4E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FD2F-5832-48AB-974C-7FAD3DDA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5997-3933-42C5-A690-4FB087AB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974F-9426-43F3-8405-AB360667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716B-C3B8-4B49-84D6-A765860A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F06D-65AE-474F-9B76-1441A535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0B33-C84B-46BF-A44F-DC1CDDB4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A451-57DE-4878-AAB6-01622BAD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0F4-543A-49F9-9064-62215BC5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5E26-53BE-4EB8-9343-F43FCE6C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E15A-D2B7-44D7-BC0E-B032325C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2FE4-0C40-4EA1-B56C-1B58D871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5421-4845-4EF1-A14C-325EB1B2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7EC9-2683-4245-9E70-58D19238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EDC-6450-4A4C-ADD9-1312CAE1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2E4-E238-40D7-9858-76CE6FE3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278-7376-4776-9F6F-93CD1CD6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A58-9155-4171-B469-B3640D9F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437-BB75-4473-A9FA-7FFAFDDB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3DB-0BCB-43DD-8F74-FAA90F32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5CD-D1F2-47A9-94A8-631ED27E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d31"/>
                  </a:gs>
                  <a:gs pos="100000">
                    <a:srgbClr val="5261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a572e"/>
                  </a:gs>
                  <a:gs pos="50000">
                    <a:srgbClr val="526133"/>
                  </a:gs>
                  <a:gs pos="100000">
                    <a:srgbClr val="4a572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2491-F093-41ED-BAC7-BF21A37BE0BE}" type="slidenum">
              <a:rPr b="0" lang="ro-RO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d31"/>
                  </a:gs>
                  <a:gs pos="100000">
                    <a:srgbClr val="5261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a572e"/>
                  </a:gs>
                  <a:gs pos="50000">
                    <a:srgbClr val="526133"/>
                  </a:gs>
                  <a:gs pos="100000">
                    <a:srgbClr val="4a572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722B-FADC-4DA5-A8EA-4DE180CA7795}" type="slidenum">
              <a:rPr b="0" lang="ro-RO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publicatie.doc" TargetMode="External"/><Relationship Id="rId2" Type="http://schemas.openxmlformats.org/officeDocument/2006/relationships/hyperlink" Target="file:///linkuri.doc" TargetMode="External"/><Relationship Id="rId3" Type="http://schemas.openxmlformats.org/officeDocument/2006/relationships/hyperlink" Target="file:///greseli_tipice.ppt" TargetMode="External"/><Relationship Id="rId4" Type="http://schemas.openxmlformats.org/officeDocument/2006/relationships/hyperlink" Target="file:///utile_asistenta_unitate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Wikiplanvelimirovici.doc" TargetMode="External"/><Relationship Id="rId2" Type="http://schemas.openxmlformats.org/officeDocument/2006/relationships/hyperlink" Target="http://matematicascaiancuoradea.wikispaces.com/" TargetMode="External"/><Relationship Id="rId3" Type="http://schemas.openxmlformats.org/officeDocument/2006/relationships/hyperlink" Target="file:///../Aplicatie_elev/prisme%20si%20piramide.ppt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Plan_unitate/Plan_unitate_invatare_velimirovici.doc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o-RO" sz="4000" spc="-1" strike="noStrike">
                <a:solidFill>
                  <a:srgbClr val="ffff00"/>
                </a:solidFill>
                <a:latin typeface="Tahoma"/>
              </a:rPr>
              <a:t>Prof. Velimirovici Cosmin</a:t>
            </a:r>
            <a:br>
              <a:rPr sz="4000"/>
            </a:br>
            <a:r>
              <a:rPr b="0" lang="ro-RO" sz="4000" spc="-1" strike="noStrike">
                <a:solidFill>
                  <a:srgbClr val="ffff00"/>
                </a:solidFill>
                <a:latin typeface="Tahoma"/>
              </a:rPr>
              <a:t>matematică</a:t>
            </a:r>
            <a:br>
              <a:rPr sz="4000"/>
            </a:b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Şcoala cu clasele I-VIII Avram Iancu, Oradea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3346560"/>
            <a:ext cx="854064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Tahoma"/>
              </a:rPr>
              <a:t>Instruirea în societatea cunoaşteri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0066"/>
                </a:solidFill>
                <a:latin typeface="Tahoma"/>
              </a:rPr>
              <a:t>Succes tuturor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00ffff"/>
                </a:solidFill>
                <a:latin typeface="Tahoma"/>
              </a:rPr>
              <a:t>Proiect educaţional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2565360"/>
            <a:ext cx="854064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6600"/>
                </a:solidFill>
                <a:latin typeface="Sylfaen"/>
              </a:rPr>
              <a:t>	</a:t>
            </a:r>
            <a:r>
              <a:rPr b="0" lang="ro-RO" sz="4400" spc="-1" strike="noStrike">
                <a:solidFill>
                  <a:srgbClr val="ff6600"/>
                </a:solidFill>
                <a:latin typeface="Sylfaen"/>
              </a:rPr>
              <a:t>	</a:t>
            </a:r>
            <a:r>
              <a:rPr b="0" lang="ro-RO" sz="5400" spc="-1" strike="noStrike">
                <a:solidFill>
                  <a:srgbClr val="ff6600"/>
                </a:solidFill>
                <a:latin typeface="Sylfaen"/>
              </a:rPr>
              <a:t>Profesor pentru viitor  Matematica predată cu ajutorul calculatorului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914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ff00"/>
                </a:solidFill>
                <a:latin typeface="Georgia"/>
              </a:rPr>
              <a:t>Tema aleasă pentru a implementa acest proiect este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2707920"/>
            <a:ext cx="854064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66ff33"/>
                </a:solidFill>
                <a:latin typeface="Franklin Gothic Medium"/>
              </a:rPr>
              <a:t>Prisme şi piramide , arii şi volume. Rezolvarea unor probleme de geometrie similare cu cele de la Evaluarea Naţional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0066"/>
                </a:solidFill>
                <a:latin typeface="Rockwell Extra Bold"/>
              </a:rPr>
              <a:t>Conţinu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În acest material voi expune pe scurt conţinutul portofoliului obţinut după parcurgerea celor 7 module.Materialul este conţinut în cinci directoare denumi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Asistenţă uni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Aplicaţie ele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Evalu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Imagini sune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Plan uni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9900"/>
                </a:solidFill>
                <a:latin typeface="Impact"/>
              </a:rPr>
              <a:t>Asistenţă unitat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Acest director conţine fişiere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Publicaţie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despre învăţarea prin proiec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Link-uri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ut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ro-RO" sz="2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rezentare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cuprinzând fragmente din lucrări scrise ale elevilor din alte generaţii, lucrări alese pentru greşeli tipice , de conţinut, de ortografie, de încadrare în timp sau chiar amuzante şi care se doresc a fi evit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Alte </a:t>
            </a:r>
            <a:r>
              <a:rPr b="0" lang="ro-RO" sz="2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fişiere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Directorul Aplicaţie elev 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Planul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unei pagini wiki 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matematicascaiancuoradea.wikispaces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menită să găzduiască sarcinile de lucru, rezultatele, prezentările elevilor, opiniile şi discuţiile elevilor despre admitere şi alte teme legate de admit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ro-RO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rezentar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a unui elev (vor fi mai multe), cu principalele teme vizate în proi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Directorul Evalu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ţine fişiere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valuarea aplicaţiei elevu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Diagrame KW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O prezentare care prezintă elevilor toate etapele evaluării pe parcursul capitolului şi la fi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Alte fişiere utile în evaluarea elevilor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Imagini sunet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54064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Aici se află imaginile utilizate la realizarea materialelor multi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848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Plan unit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Planul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unităţii de învăţ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lan de implementare a unităţii de învăţ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Bibliograf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1:20:25Z</dcterms:created>
  <dc:creator>Eu</dc:creator>
  <dc:description/>
  <dc:language>en-US</dc:language>
  <cp:lastModifiedBy>www</cp:lastModifiedBy>
  <dcterms:modified xsi:type="dcterms:W3CDTF">2011-01-14T12:30:00Z</dcterms:modified>
  <cp:revision>13</cp:revision>
  <dc:subject/>
  <dc:title> Prof. Velimirovici Cosmin matematică Şcoala cu clasele I-VIII Avram Iancu, Oradea  </dc:title>
</cp:coreProperties>
</file>